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D53-0540-4FCE-B200-FE4AF1BD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AF1-2522-46A9-A8B5-671F9BA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70A-6A5C-454C-AB20-FECE233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DEA-AC13-4695-831B-4DCC14A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CC2-5EE3-439A-98D5-77E9D9AA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04B-461D-4290-A54E-6B1C094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3D4-C873-4950-9524-2B015122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A5C-73D7-4A4A-A5CE-CF6A2F8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DC5-F7C3-4AA7-B337-7781D32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AA2-83C5-4817-94A9-A854142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4B3-D1BC-4609-A7F2-D9CA0A9C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B26-D38C-4E31-BC57-C205872A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1A1B-E6B4-46E3-91B7-B2A1FD38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6685-C73B-4B42-BA39-6E7F89A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0D42-8D2B-48C2-9C3C-6B32802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ACF7-FF61-46B6-8FF6-FF754BA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C5D7-FFAA-4F0B-B4FD-7F82C87A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132-7E03-489C-B307-518743B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004-A0E1-4F7C-87D1-57559B3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086F-6BD0-411E-A803-CD528AF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A892-0677-431E-805F-8F460B21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0861-9F1A-4372-9F6A-A975A3A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CCE2-966C-42B8-AD7D-5E0CC3D8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921F-F8AC-4E83-B3E0-712FDBC9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8D8E-B56D-40CE-8507-40749A47A6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197-AEC8-49EA-AD9A-4F72145C7A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illipore.com/images/large/882402EU-06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И МЕТОДЕ СТЕРИЛИЗ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4437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258920" y="112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iagram 3" descr=""/>
          <p:cNvPicPr/>
          <p:nvPr/>
        </p:nvPicPr>
        <p:blipFill>
          <a:blip r:embed="rId1"/>
          <a:stretch/>
        </p:blipFill>
        <p:spPr>
          <a:xfrm>
            <a:off x="-195120" y="1395360"/>
            <a:ext cx="9345600" cy="4926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6875640" y="1700280"/>
            <a:ext cx="172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516720" y="1484280"/>
            <a:ext cx="26272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топлотом и зра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бактерицида  (стерилизација гасовима и течностим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 уклањање микроорганизама (бактериолошка филтр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agram 4" descr=""/>
          <p:cNvPicPr/>
          <p:nvPr/>
        </p:nvPicPr>
        <p:blipFill>
          <a:blip r:embed="rId1"/>
          <a:stretch/>
        </p:blipFill>
        <p:spPr>
          <a:xfrm>
            <a:off x="-6480" y="712800"/>
            <a:ext cx="96998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 2" descr=""/>
          <p:cNvPicPr/>
          <p:nvPr/>
        </p:nvPicPr>
        <p:blipFill>
          <a:blip r:embed="rId1"/>
          <a:stretch/>
        </p:blipFill>
        <p:spPr>
          <a:xfrm>
            <a:off x="317520" y="974880"/>
            <a:ext cx="83628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iagram 2" descr=""/>
          <p:cNvPicPr/>
          <p:nvPr/>
        </p:nvPicPr>
        <p:blipFill>
          <a:blip r:embed="rId1"/>
          <a:stretch/>
        </p:blipFill>
        <p:spPr>
          <a:xfrm>
            <a:off x="-66600" y="182520"/>
            <a:ext cx="93438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4920" y="1844280"/>
            <a:ext cx="82630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терилизација сувим врућим ваздухо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)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60±5°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40 ±5°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терилизација засићеном воденом паром п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иском (стерилизација у аутоклаву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)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мин на 120±1°С и надпритисак од 101.3к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 мин на 135 ±1°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дпритисак од 101.3к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Стерилизација у струји водене паре или кључалој во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мин на 98-100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Стерилизација пламеном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провлачи неколико пута кроз неосветљени део пламена, тако да се сваки пут задржи у пламену најмање 20 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Стерилизација филтрациј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Асептични поступа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Inceneration"/>
          <p:cNvPicPr/>
          <p:nvPr/>
        </p:nvPicPr>
        <p:blipFill>
          <a:blip r:embed="rId1"/>
          <a:stretch/>
        </p:blipFill>
        <p:spPr>
          <a:xfrm>
            <a:off x="6659640" y="2276640"/>
            <a:ext cx="22143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терилизација засићеном воденом паром под притиск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загревање у аутоклаву на 121 °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најмање 15 минута, за водене препара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терилизација сувим врућим ваздух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загревање у сувом стерилизатору на 160°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најмање 2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Стерилизација јонизујућим зраче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Стерилизација гас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тиленокс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Филтр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ктериолошки филтери промера п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2 – 0,45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ептичн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Ph. Jug. 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358920" y="14130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British Pharmacopoeia 20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468360" y="2060640"/>
            <a:ext cx="806436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топло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воденом паром под притис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га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зрачењ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лтр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4000" y="1916280"/>
            <a:ext cx="842472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уништи све врсте МО, укључујући и сп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јни медијуми: пара (влажна топлота) или топао ваздух (сува топ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 и влажна топлота се разликују по механизаму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а делује на систем ензима МО, денатурише их и деактивира (доминантно влажна топ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 – изазива и оксидативне проце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термалне смрти – дуже при стерилизацији сувом него влажном топлотом на ист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температуре су временски ефикасније и мање оштећују материјал који се стерили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1056960"/>
            <a:ext cx="76327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лота као средство за стерил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989000"/>
            <a:ext cx="5688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 се користи за стерилизацију и депирогенизацију (уништавање хемијске активности пирогена/ендоток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за стерилизациј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х, неводених препарата, прашко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их инструмената, предмета, прибора, амбалаже од метала, стакла, порцел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уља (уљани растварачи, подлоге за масти и препарати припремљени са мастима и уљим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Hot air sterilization"/>
          <p:cNvPicPr/>
          <p:nvPr/>
        </p:nvPicPr>
        <p:blipFill>
          <a:blip r:embed="rId1"/>
          <a:stretch/>
        </p:blipFill>
        <p:spPr>
          <a:xfrm>
            <a:off x="5749920" y="2492280"/>
            <a:ext cx="3394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8000" y="228708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12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90 - 12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45 - 6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ирогенизација:</a:t>
            </a:r>
            <a:r>
              <a:rPr b="0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60 - 9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r>
              <a:rPr b="0" lang="sr-R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30 - 6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оксидационих процеса,                                 губитака влаге и денатурације                              протеина чиме се уништавају 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ва топ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ot Air Oven"/>
          <p:cNvPicPr/>
          <p:nvPr/>
        </p:nvPicPr>
        <p:blipFill>
          <a:blip r:embed="rId1"/>
          <a:stretch/>
        </p:blipFill>
        <p:spPr>
          <a:xfrm>
            <a:off x="6113520" y="3357720"/>
            <a:ext cx="303048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7640" y="2349360"/>
            <a:ext cx="8605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генерални захтев за микробиолошком чистоћом лековитих препарата (одсуство бактерија, вируса, плесни, гљивица, ендотоксина) због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и хемијске стабилности лековитог препар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а озбиљних нежељених ефеката код пацијена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 да парентерални препарати, офталмолошки препарати, раствори за иригацију, препарати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на кож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ће отворене ра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планти, хируршки прибор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ју бити стерил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50920" y="213372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м стерилизатор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следеће фаз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 материјала на темп. до 100 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дукцијом – провођењем топлоте са металних уложака, конвекцијом – преношењем топлоте помоћу ваздуха, зра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ко зидова) при чему се одстрањује вла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 - мери се од момента када је постигнута темп. стерилизације и обухвата време одржавања и време сигур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989000"/>
            <a:ext cx="8435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 упутства за ра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но распоредити материјал да се не омета кретање ваздуха и да се не затворе отвори на перфорираним преград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пуњавати стерилизато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и се тако да се у свим јединицама које се стерилишу постиже уједначена температура. Температура се обично мери термоосетљивим елементима који су убачени у одређене, најхладније делове коморе, заједно са додатним елемен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о је материјал који се стерилише (нпр. прашкови, уља) пунити у мање боце, макс. до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68360" y="1267920"/>
            <a:ext cx="83390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јнери би требало да су исте величине и најбоље је одабрати или све уске и високе боце или ниске и широке судове (нпр. петри шоље), да би топлота могла да пенетрира брзо и у једном прав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који се стерилише треба заштити увијањем у папир или фолију како би се сачувала стерилност након вађе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завршене стерилизације чека се док темп. не падне на 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 не би дошло до пуц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сувим ваздухом на темп. изнад 22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сто се користи за стерилизацију и депирогенизацију ста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468360" y="1341360"/>
            <a:ext cx="813600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терилизације сувим, врућим ваздух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време тра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 се применити за стерилизацију термолабилних препарата, водених раствора, прибора и амбалаже од гуме и плас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4920" y="2205000"/>
            <a:ext cx="8061480" cy="433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ена пара као средство за стерил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68360" y="2205000"/>
            <a:ext cx="77756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за уништавање микроорганизам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поседује захваљујући латентној топлоти испаравања и то 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до кључања даје 80 калорија, 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ључале воде до паре даје 540 калори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долази у контакт са хладнијом површином, кондензује се, изазивајући смањење волумена и повећење негативног притиска што захтева доток нове количине пар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аре значајне за примену у стерилизацији: чистоћа, лака контрола температуре, добра пенетрација, лака дистрибуција и економска прихватљиво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4000" y="1052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деловања водене паре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штавање микроорганизама засновано на коагулацији протоплазме тј. протеина и инактивацији ен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засићеном воденом паром је метода којом се брзо уништавају микроорганизми, ефикаснија од стерилизације сувим врућим ва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илизација засићеном воденом паром под притис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парентералне препарате (инјекције, интравенске инфуз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офталмолошке препа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и уређаје од метала, гуме, нај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и материј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материјал и медицинске уни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може би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ичан или правоугаони, хоризонтално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о постављен или тунел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утокл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чка ком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 сигур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ометар (уређај за мерење притис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 за довод и одвод па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мет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засићеном воденом паром под притис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360" y="3933360"/>
            <a:ext cx="85914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 притисак нема способност стерилизације већ повећава температуру па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5280" y="1197000"/>
            <a:ext cx="7272360" cy="91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у аутоклаву делује ка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илац топлоте (уколико се стерилишу т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за грејање (уколико се стерилише посуђ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00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д температуре, притиска и времен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9640" y="2352600"/>
          <a:ext cx="8425080" cy="411660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36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исак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b/in</a:t>
                      </a:r>
                      <a:r>
                        <a:rPr b="0" lang="en-A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времена одржавања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68,95 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-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103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42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-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13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-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22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-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1916280"/>
            <a:ext cx="842472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ваздуха из коморе ауток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водене паре из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(убрзано хлађење) и сушење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гре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одржавања (минимално време за које се униште 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игу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зе процеса стерилизације у аутокла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1844640"/>
            <a:ext cx="7991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се дефинише као одсуство живих (вијабилних) микроорганиз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 је или стерилан или није, нема изражавања у степени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се обезбеђује применом валидираног процеса стерилизациј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мене процеса стерилизације врши се провера у погледу ефеката на препарат и финалну амбала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имене одговарајућег процеса стерилизације неопходно је утврдити да ли је очувана ефикасност и интегритет препар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ме утицати на особине и терапијску активност препарата односно материјала који се стерилиш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препарата се мора потврдити одговарајућим испитивањем.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стерилности не може да гарантује стерилност – она мора бити обезбеђена у току производње препар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29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4"/>
          <p:cNvSpPr/>
          <p:nvPr/>
        </p:nvSpPr>
        <p:spPr>
          <a:xfrm>
            <a:off x="611280" y="285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ontent Placeholder 3" descr="Large_autoclaves"/>
          <p:cNvPicPr/>
          <p:nvPr/>
        </p:nvPicPr>
        <p:blipFill>
          <a:blip r:embed="rId1"/>
          <a:stretch/>
        </p:blipFill>
        <p:spPr>
          <a:xfrm>
            <a:off x="4067280" y="1628640"/>
            <a:ext cx="403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након стерилизације у аутокла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ити аутоклав да се охлади до температуре мање од 8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ити вентил за одвод паре да би се изједначио притисак у аутоклаву са спољашњ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 се отвара када се притисци изједначе и темпрература падне испод 5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4360" y="1916280"/>
            <a:ext cx="8076960" cy="46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потребно за уништавање познате популације микроорганизама у специфичној суспензији на одређеној темп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температуре смањује време термалне смр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 терм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203640" y="3284640"/>
            <a:ext cx="2520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рмалне деградације микроорганиз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̇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t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и број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 посл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мално време распада (време потребно да се број микророрганизама смањи за 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 терм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68000" y="1905120"/>
            <a:ext cx="8196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валидиран и обавез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цесна контр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, хемијски и биолошк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контро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рење Т и П термоелементима повезаним са електронским писачима и манометрима (микропроцесорим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контро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емијски индикатори – топљење или промена бо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група они који показују да је постигнута Т стерилизације – бензоева киселина у затопљеној цевчици која се топи на 121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рупа – они који мењају боју у току одређеног временског интервала на одређеној Т (процена времена и Т стерилизац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оне смеш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 цевчице) – реакција у одређеном временском интервалу и на одређеној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а процеса аутоклавирања –валидација/ мониторин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8920" y="1755360"/>
            <a:ext cx="855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V; Ph Eur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 број микроорганизама познате осетљивости на стерилизацију – обично споре, инокулисане у носач и постављене у тако запечаћено паковање које онемогућава контаминацију и оштећење, а дозвољава пролаз стерилишућег агенса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стерилизације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аковање се отвара, засејава на одговарајућу подлогу и инкубира да би се одредило да ли има преживелих М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и се постављају на места која су најмање доступна стерилишућем аген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 стерилизације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2 Ph. Jug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оступак стерилизациј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финисан биолошки индик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799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а процеса – аутоклавирања /валидација,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24000" y="1268280"/>
            <a:ext cx="828036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биолошког индик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размотрити вијабилност МО, услове чувања пре употребе и услове инкубације и култивисања након стерилизације – све мора бити стандардизовано за дати поступ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од биолошких индика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subtilis var. nig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, гасна стерилизација етиленокс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stearothermophilu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п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pumul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че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 мора бити непатоген и лак за култивис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рач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зраче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магнетно (УВ и гама зрачењ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чно (електрони високе енерг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В зрачење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сне дужине 240 – 28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ни ефекат уз ограничену пенетра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димера тимидина у ДНК који спречава размножавање микроорганизам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е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изација ваздуха, радних површина, површина предмета и евентуално воде у танком слој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зрачењ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к опсег таласних дужина је ефикасан у убијању МО (220 – 28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= 26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ефикаснија – најбоље се апсорбује од стране нуклеопроте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008920" y="-36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Cj03035470000[1]"/>
          <p:cNvPicPr/>
          <p:nvPr/>
        </p:nvPicPr>
        <p:blipFill>
          <a:blip r:embed="rId1"/>
          <a:stretch/>
        </p:blipFill>
        <p:spPr>
          <a:xfrm>
            <a:off x="7380360" y="1413000"/>
            <a:ext cx="15238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ма зрачењ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-енергетско зрачење, таласне дужине 1-10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вор су изотопи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балт 60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цезијум 13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јонизујуће зрачење изазива јонизацију ћелијског садржаја, настајање слободних радикала и ексцитацију молекуле, што доводи до деградације ензима и ДНК - уништење ћел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изација фармацеутских, термолабилних материјала као што су витамини, ензими, минерали, моноклонска антитела, антибиотици, пептиди, плазма, ткиво, коштани трансплантати, медицински инструменти, пластични уређаји и делови уређаја, хируршке унифор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98900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ањење деградације произ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а продук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мпературна незави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ном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рач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395280" y="1197000"/>
            <a:ext cx="8137440" cy="63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контаминациј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 микроорганизми, ендотоксини микроорганизама (пирогени), гљивице, плесни, вируси. Могућност присуства вируса хепатитиса и Хива у протеинским производима (фракције крви) узроковала је развој метода за њихово уништав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контаминациј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ковите и помоћне супста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ал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е се мора спроводити по принципима Добре произвођачке прак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могуће стерилисати препарат у финалној амбалажи примењује се асептични поступак израде и/или бактериолошка филтр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42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тип стерилизације (убрзани електрони, β-честице) одвија се у акцелера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алтернативу гама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моћ пенетрације у односу на гама зра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произвести x-зраке те је неопходна заштита околине и осо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стично зрачење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ектрони високе енерг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220464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етиленокси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збојан гас, тежи од ваздуха, мириса сличног етру, реактиван, са тенденцијом полимеризације, токсичан, запаљив, експлозиван (меша се с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би се смањила могућност паљења и експлоз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пластичних компоненти за медицинску терапију (катетери, системи за 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пликацију лекова, сонде ит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а амбалажа за лековите препара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а амбала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гасом (етиленоксидом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39640" y="1197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етиленокс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39640" y="1916280"/>
            <a:ext cx="777744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е ЕТО врши се у стерилизаторима сличним аутоклаву, који могу да поднесу вакум или повиш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ме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%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 стерилизационог гаса проверава се помоћу одговарајућег биолошког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се одвија под следећим услов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-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ја 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400-1299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 најмање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h – 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8360" y="105264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етиленокс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бро продире у материјал али се и адсорбује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 одакле се споро отклања (под нормалним условима око 14 дана, под контролисаним условима 2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828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страњивање вегетативних и спорогених облика микроорганизама и других честица филтрирањем кроз стерилне филтре (бактериолошке филтре) под асептичним усл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раствора термолабилних супстанци (антибиотици, стероиди, пептид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великих количина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препарата који се не могу стерилисати у финалној амбал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га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55640" y="11253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ФИЛТР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0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773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јањ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мо веће од величине пора филтр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сорпциј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о се електростатичким везама задржава у сплету порозних канала филт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териолошки филтри (величина пора 0,22 – 0,45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μм)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но стакло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целанске све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не пло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мбрански фил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Стерилизација филтр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ски фил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од деривата целулозе,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ра, флуоретилена, поливинил флуор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 пора 0,025-14 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шу се засићеном воденом паром под притиском или етиленоксид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лимерног филтера зависи од карактеристика раствора који треба стерилис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стерилизације филтрациј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оћи до пуцања филтр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ен капацитет филтрационог медијум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 и после филтрације филтер се мора испитати на интегритет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 се може контаминирати при пуњењу у финалну амбалаж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ти филтер се не може користити дуже од једног радног дан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лтер не сме да реагује са препар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981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филтера према конфигур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06728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Дискоидни фил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5940360" y="3068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илтерске капс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86200" y="59500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илтерске св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0"/>
          <p:cNvPicPr/>
          <p:nvPr/>
        </p:nvPicPr>
        <p:blipFill>
          <a:blip r:embed="rId1"/>
          <a:stretch/>
        </p:blipFill>
        <p:spPr>
          <a:xfrm>
            <a:off x="6012000" y="3500280"/>
            <a:ext cx="2857320" cy="194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882402EU-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34340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3"/>
          <p:cNvPicPr/>
          <p:nvPr/>
        </p:nvPicPr>
        <p:blipFill>
          <a:blip r:embed="rId4"/>
          <a:stretch/>
        </p:blipFill>
        <p:spPr>
          <a:xfrm>
            <a:off x="1523880" y="21337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рада лековитог препарата под условима који искључују могућност контамин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супстанце, прибор, посуђе, амбалажа се стерилише одговарајућом техником пре почетка асептичног поступ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епарате који се не могу стерилисати у финалној амбалаж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спензије и емулзије за парентералну приме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ке колидне и уљане раствор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ептични поступ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1817280"/>
            <a:ext cx="7988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фармацеутско-технолошка операција којом се одстрањују или уништавају вегетативни и спорогени облици микроорганизама из лековитог препарата или са предмета. Обично је завршни корак у изради/производњи стерилних лековитих препар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и облици: бактеријске ћелије способне да се умножавају, за разлику од спорогеног облика. Мање отпорне од спорогене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гени облици: неки сојеви бактерија формирају облик који је много отпорнији од вегетативне форме ће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ептични поступак се изводи  у комори са ламинарним протоком ваздух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Laminar flow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тоћа ваздух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 Eur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о макс. 3500 честица велич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м, ниједна од 5 μм и живих организама мање од 1 (из више узора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тоћа ваздуха обезбеђује се проласком кроз ХЕПА филтре и присуством УВ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P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iancy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te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-ефикасни филтер за честице из ваздуха уклања 99,97% честица величине 0,3 μм и већ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зина ламинарног струјања (потисно слојевито, без турбуленције) ваздуха 0,2 – 0,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611280" y="1125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Хоризонтални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minar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A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irflow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C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3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4968720" cy="4240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24" name="Content Placeholder 3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4968720" cy="4240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25" name="AutoShape 6"/>
          <p:cNvSpPr/>
          <p:nvPr/>
        </p:nvSpPr>
        <p:spPr>
          <a:xfrm>
            <a:off x="4932360" y="1989000"/>
            <a:ext cx="1450800" cy="287640"/>
          </a:xfrm>
          <a:prstGeom prst="borderCallout1">
            <a:avLst>
              <a:gd name="adj1" fmla="val 18750"/>
              <a:gd name="adj2" fmla="val -8333"/>
              <a:gd name="adj3" fmla="val 80092"/>
              <a:gd name="adj4" fmla="val -229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a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5651640" y="2924280"/>
            <a:ext cx="1584360" cy="320400"/>
          </a:xfrm>
          <a:prstGeom prst="borderCallout1">
            <a:avLst>
              <a:gd name="adj1" fmla="val 18750"/>
              <a:gd name="adj2" fmla="val -8333"/>
              <a:gd name="adj3" fmla="val -20000"/>
              <a:gd name="adj4" fmla="val -159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859280" y="4653000"/>
            <a:ext cx="1612800" cy="288720"/>
          </a:xfrm>
          <a:prstGeom prst="borderCallout1">
            <a:avLst>
              <a:gd name="adj1" fmla="val 18750"/>
              <a:gd name="adj2" fmla="val -8333"/>
              <a:gd name="adj3" fmla="val 211111"/>
              <a:gd name="adj4" fmla="val -9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4067280" y="5661000"/>
            <a:ext cx="1693800" cy="352440"/>
          </a:xfrm>
          <a:prstGeom prst="borderCallout1">
            <a:avLst>
              <a:gd name="adj1" fmla="val 18750"/>
              <a:gd name="adj2" fmla="val -8333"/>
              <a:gd name="adj3" fmla="val 30680"/>
              <a:gd name="adj4" fmla="val -126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258920" y="14130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000"/>
                </a:solidFill>
                <a:latin typeface="Times New Roman"/>
                <a:ea typeface="Times New Roman"/>
              </a:rPr>
              <a:t>Вертикална ламинарна ко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ontent Placeholder 3" descr="42 Figure-9-1"/>
          <p:cNvPicPr/>
          <p:nvPr/>
        </p:nvPicPr>
        <p:blipFill>
          <a:blip r:embed="rId1"/>
          <a:stretch/>
        </p:blipFill>
        <p:spPr>
          <a:xfrm>
            <a:off x="2035080" y="2287440"/>
            <a:ext cx="50738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558800" y="19432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11280" y="1268280"/>
            <a:ext cx="9072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конта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но обуче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икција броја особ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одећа (стерилна,одећа која не од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-влакн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79280" y="191628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т стерилизације мери се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ом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 Assurance Lev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сигурности стерилн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тепен сигурности под којим процес који је у питању даје целину стерилних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ати процес представља се као вероватноћа постојања нестерилних јединица у тој це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вероватноћу да нема више од једног живог микроорганизма у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исаних јединица финалног произ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роватноћа проналажења нестерилне јединице мања од 1 у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кон обављен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фикасност методе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256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да ли је производ који је стерилисан одређеном методом контаминиран микроорганизми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на крају или током процеса стерилизације за контролу самог процеса (биолошки индикатор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узорак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 од величине серије и начина стерилизаци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е стерилности у савремени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рмакопе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4000" y="1341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испитивања стерил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директна инокул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ејавањем препарата на прописану подлогу и инкубација под прописаним условима (нпр. 7 дана на 30 до 35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ска филтр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лтрирање препарата кроз мембрански филтер, засејавање филтра на хранљиву подлогу и инкубација под прописаним усл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када је могуће предност дати методи мембран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и – супстанце које изазивају “пирогену реакциј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 (метаболички производи мо - ендотокс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а реак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- висока температура, миграција лимфоцита, ослобађање хистамина, промена пермеабилности крвних судова, агрегација тромбоцита, шок и см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е присуства пирогена у препа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вајуће околности за елиминацију пирогена из препарата тичу се њихових особ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на бактерициде који су најчешће у при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испарљ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уства пирогених материја у препарату може се вршити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vo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ro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рогени тест на кунићима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00,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1997, Ph. Jug IV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се изводи на 3 кунића и заснива се на праћењу промене телесне температуре. Животињама се пре почетка експеримента измери телесна температура, затим се у вену уха ињицира испитивани препарат и прати да ли долази до пораста температур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: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сасвим поуздан и скуп 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826920" y="134136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СТЕРИЛ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 или уништавање свих облика микроорганизама, вируса, гљивица или плесни у/на препарату или прибору, посуђу, уређајима, радним површинама и у вазду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4920" y="162828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ulus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bocyte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at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ивање присуства ендотоксина у препар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екстракт крвних ћелија – амебоцита морског рачи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ulus polyphe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 амебоцита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жи ензиме – протеински систем који коагулише у присуству ендотокс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суство ендотоксина у препарату доводи до реакције коагулације протеина (гелирање, замућење или  таложење) односно стварања лимулус лизат гел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Horseshoe crab"/>
          <p:cNvPicPr/>
          <p:nvPr/>
        </p:nvPicPr>
        <p:blipFill>
          <a:blip r:embed="rId1"/>
          <a:stretch/>
        </p:blipFill>
        <p:spPr>
          <a:xfrm>
            <a:off x="6443640" y="0"/>
            <a:ext cx="251604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50560" y="1268280"/>
            <a:ext cx="87138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L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о/квантитативан тест – присуство ендотоксина се одређује визуелно, формирањем лимулус лизат гела, а концентра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рбидиметријски или спектрофотометриј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ућење је сразмерно концентрацији присутног ендоток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 – детектује се мала количина ендотоксина (&lt;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дотокс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и јефти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 за испитивање у току производ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57280" y="26240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броја преживелих клица (начин опадањ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преживелих клица опада геометријском прогресијом у једнаким временским интерва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82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АЦИЈА ПРОЦЕС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080" y="184464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уништавања микроорганизама пропорционална је њиховој концентрацији тј. броју у јединици вре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 2,303/t x log 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бр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у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икроорганизама на почетку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икроорганизама после стерилизације у вре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АЦИЈА ПРОЦЕС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560" y="155700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стерилности = ИФ / средња вредност броја присутних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организа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нактивације (ИФ) - % уништених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организа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кспериментална вредн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9T09:07:24Z</dcterms:modified>
  <cp:revision>238</cp:revision>
  <dc:subject/>
  <dc:title>Slide 1</dc:title>
</cp:coreProperties>
</file>